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breeze.wav" ContentType="audio/x-wav"/>
  <Override PartName="/ppt/media/image9.gif" ContentType="image/gif"/>
  <Override PartName="/ppt/media/explode.wav" ContentType="audio/x-wav"/>
  <Override PartName="/ppt/media/image15.png" ContentType="image/png"/>
  <Override PartName="/ppt/media/image6.gif" ContentType="image/gif"/>
  <Override PartName="/ppt/media/image14.png" ContentType="image/png"/>
  <Override PartName="/ppt/media/image13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8.jpeg" ContentType="image/jpeg"/>
  <Override PartName="/ppt/media/laser.wav" ContentType="audio/x-wav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596-C678-49C1-986C-848A3C28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388-9D06-4C04-97E6-45EB9353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188E5-E798-46B3-BA66-788C5FD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5DB75-1397-49B4-9B11-32AC3748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7D98F-7A17-405A-B51A-C41BA82B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5BD04-7B51-4C4F-BF90-071E131C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E62E5-B2E3-42C0-AC09-687B472C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460E1-6A4F-401C-8CFF-C3EE739A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21721-F717-4E7E-861E-145D0CFD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C5EAE-6307-4005-A99F-0F44FDCA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20F58-081A-40F9-BEB9-68198B8E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C2393-C28A-4252-9643-F4FFFA60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278-BF43-4B45-837E-BF60F3BD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3D870-BF57-4482-B24A-23274D38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6CD6D-7216-4640-ABDA-1BF8BCD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95965-C3EE-4C65-8B43-42CF39B6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3D578-E929-4900-863A-0D83B7EC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BB285-45AE-4F1C-A97A-26AB57AF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1F7E4-F015-4EBD-B508-DABBEF74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AA523-01C7-4D8E-9315-C4BFD443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38ED6-B818-486C-98DB-C3AAF7EC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49591-8032-42F5-9A72-1D6689D4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057E5-A6F5-4CB7-BA66-F447699A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6A7-3357-41B8-88DE-8B96A3D4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DC944-2B19-4B92-B84C-5F516271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7B139-BF95-49F8-AC55-1B604495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70C2A-7C5D-4ECF-B8FF-464954E0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6C256-B393-4C8B-B59B-124451F7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EF0E0-8F59-42A8-9BE5-1C3D220A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B2CD2-3575-49D9-A9D5-C9B54579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7E94F-7400-4049-ACCD-5A26B8F5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2D339-81F1-401D-A12B-47753C2B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ABE7C-5E5A-4B16-A974-D889061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5FC2B-52FA-4EDF-B94E-1051D64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7412-8FDF-4A5C-B560-95CEF858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3FC40-33C2-4BC4-B046-31A7349C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43C24-57D9-480B-BD4B-72DFA0BE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3EF13-E490-49F6-B9A5-90BA9E86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64DF9-22EA-40F0-98FF-FFE4DF1B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BFE79-8AC4-4D5D-837F-E2096106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E414B-B810-49DF-8604-1E62EC83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6E126-887C-483A-BE4E-99CD019F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D3B4F-6A18-4343-ACEE-A3F70234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63899-2AF9-40EB-A47C-BAEF0DF4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1736A-9B95-4552-8F4B-EDD54D98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3FA9-40B7-4B49-9B80-91890F5D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EB307-63BF-45DA-BCE6-9540870D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10AA2-91CC-4F9A-AD8B-C12593B9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791F4-0783-4CC8-A5B8-5202D853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20C95-3040-4F8B-9538-E90CC7FA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0BE8A-647A-4001-BA41-AAC19476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06BD5-67DC-4C3C-9F01-99E42992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96569-A94D-4252-A855-98E3BE85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662F9-5849-445D-BC49-7C295830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3BE16-FE3B-4FC9-989D-CF7AB807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92FF3-BE9B-4CDA-A8B3-23E10FA5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672E-B6B7-471A-AEAF-63B303F3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73369-7007-412B-82FA-FA721D42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E5C0E-4CFD-4F34-954E-867EF798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DCB4E-15F8-4D43-907D-55E9A408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E13CF-35AD-4033-BAB3-613EAC35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E6140-77A8-4108-B84C-01E9A1DE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8CF33-8D72-4297-84DE-DDA23588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7FD8E-9571-462F-A275-C27FE284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2C51E-0619-4601-995B-96E2A9B8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07B68-517E-4A33-8290-AA837B93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975C2-6967-4D2B-B24D-3DE3143E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4FC5-4ED8-4D18-9D93-310E1242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C4EBC-863B-4763-BFCE-F6237167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995FA-01DF-484A-B93D-6BC617B4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F7886-2A24-4224-893E-35BF0E80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58EAF4-9C63-4096-BB3D-18768690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0301A-716A-4B5F-B154-91D87CAF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CAD12-B19C-4698-9CF4-0C64B94D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43ACC-F433-407E-8AAC-7F113CCC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79D2D-3E66-43E2-AFD8-0879897D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60C99-17A9-4DF9-AD66-5EABBF23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E169A-8F52-48C9-9D9C-2781B1BF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C303-DDA9-4C8B-8085-DA81E5C3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90F04-6404-461A-BA50-4D89EBCF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7338D-B1C0-4C5D-983D-04495F80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2561B-F894-4F3C-853B-F52A0ABC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DC9F8-F70D-44F0-B215-1EE5840E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D35486-6548-4CE8-97CA-2EFBB9B2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E4D5E6-D81F-453E-94F5-132D4A1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283D31-BE6D-4C35-81A0-D37B3AF5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C524B-6573-4373-960E-1453B6D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2394B-2A22-4ACE-8295-3538348A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B90B0-930E-445D-9146-A6016592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289D-2979-42DB-911A-D2D582D8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C3D4A-759E-4B6A-ABDB-EC9BCB68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7F95-EB5F-438C-AA82-85F71A09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F93-DE35-42CB-9E74-05F7FE76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33E4-9631-4721-B15A-9EBA2F81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8025-0595-4162-9D34-A6CF6CF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AB3F-85F3-4143-AE1B-77512A99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3A51-C8A9-4D7F-8B57-350B8FFA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28A1-07EC-4A89-A9C8-C84E3C1A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65FE-E881-40B9-8677-AEFADFF4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46CA-B546-41E6-8848-A327AD7F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52D3-3BFE-4AF1-953B-8E53A4D9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0C67D-9E8F-4A4D-A37A-569CB22C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FD7D-3E77-46EC-9451-9CD27AEC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13D-3EF1-4076-9B29-82B91DFA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FB0A-3404-40F6-9064-7B4CA4D4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5845-0A51-40FD-883E-0AA3F5C1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3701-C996-4ADB-9C9A-1CFEB33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C7C2-6812-4ED2-B28E-FF02289A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F0A9A-F78A-4AC9-985F-3C7D5B2D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CEB13-8BAF-49AD-A34D-0DAFD4F7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B32D-C274-4EBE-8F46-DBB71F83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59D29-5A97-4281-A81C-A05B8E5F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6DBD-2627-48A9-8390-6B0B5A8D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5BC12-CEF9-4EE4-AED3-C71F7DC4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0D9-6A02-46DB-92DA-F582FCAB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A82B-A329-4BFE-A5F3-9BCCEE25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D8B0-238F-44D8-B957-1879B0B1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819D2-0F1C-4D23-AB74-9973554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17312-4A29-443B-A86C-5233141F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5DA6-422A-4F58-96D0-64103F59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B18E2-208B-4558-B0BF-6E67BAE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40E91-D1D3-4897-A0E5-42FA5504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2034A-2425-46A4-8393-F6DBABF4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DCFFF-3F52-4D7A-9B69-FED27136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18EFC-2747-4D57-959B-13187BFC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546-484A-411D-9488-A412DB57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3E601-536E-4311-8D1B-50F6137F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ECC8A-D67F-4DFE-A96D-9CF3E1AD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89DF0-76B5-4BEB-88D4-F858D479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E652C-7DEC-4471-9823-9A20114D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2B5A2-05AE-46F9-882D-321EE463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02164-A2B8-4B41-898B-2772DE83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56781-ADB1-4233-B559-FBC12094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23575-292E-4762-9086-FE630B4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B7AE3-2BA4-49A4-9713-F27BB49D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AF1A6-F844-49E7-B920-4DB7F6CC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1D6-6E72-4666-8FAF-403EB934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FC88B-FBEF-48E0-BBD7-50BA71D5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52D08-7892-41D9-AF32-4F46990E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BA1B-D265-4665-9601-41CE286A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19C0C-40A2-4E19-8B4F-E26DCF06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B0B24-A822-4E96-839B-DDE18DAD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C7658-EFB0-46CF-8627-958A2EFF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B94C-DB13-4645-899D-E0414BA2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32AD6-C94B-42B0-A4AD-F1083909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D3B02-741A-444E-A2D8-FBC10256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21393-E2D3-433A-AC03-1DC1076C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CD5-E98F-4E7D-8D72-554DFE8D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3268A-4AED-4FA5-B768-E3A6DE42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EBD0A-0FE7-4495-BA3C-9A2D9EE7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3F66A-B1D4-43FC-8901-744A1523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3CB80-EE0D-4BA7-87A0-655D23CC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5BF0A-AC07-452C-B91C-9D675C9D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13E30-173E-4AFB-95FE-72FB23EF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D79C8-5ECA-4406-9860-99FE386F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C8CB6-9000-485A-9E3C-0847C73E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844A-4F87-4401-9302-31927777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5EE9E-891E-4E8D-BEDA-0F2A6F7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1A8-92E4-41A2-B44A-9F663751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7C6F5-C6FC-4098-A7D4-4D75DAF9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CE120-E00C-41EE-8020-E2F7F004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718BF-7F90-4233-A957-0F3D4FC8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D979F-CFDF-4D56-B1A9-D608D431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2D434-FB04-4EA2-BEB6-97EA937C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62C4D-E62D-4B3D-B843-3E86AE83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CF735-12B5-487C-A2AA-9B529EE4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480E-B773-4B60-AAC3-087600E6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DED1B-9A0A-48F2-93C2-4CFE611D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08FA3-6345-45A8-BA1D-D3B3FEBF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4B0-F7A2-40A4-BC8A-01EDD25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27AD-7F45-40D1-8FD8-DC06F8E7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F8D59-8CB6-4DD4-B4A9-8E8A8D93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B90D2-9EC3-42E9-B77E-B97ABDFB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B5DBD-EBA7-42FE-B63E-2C40EA53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1157B-5937-4834-9EE4-922E37DD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81700-8447-4F20-BE59-EB9B6564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DD829-34F8-4F6A-8987-FFC4BD68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5FBBF-658C-4727-BC09-7CE39F2B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90169-6D0F-4C52-A287-AA37A555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A4386-2EF0-4C2D-B530-A1F04C01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3B51-8C36-475A-9122-5B0346B9C58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0508-B0DA-4A3A-B559-5E6B93A0A446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114C-C89B-4D02-AC04-86742F514C13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13F6-C9E1-4655-ABE5-7ADE7385566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D367-C7F1-4DDA-87F1-AF7D3F4C4D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FB0E-E978-47DD-B6DA-3107D20201E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4E4B-0EC3-4418-8CBF-3E445A4DC74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2A59-3A60-4084-88DA-7DD7770797F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0197-1A19-4A8D-948A-5CF6C8D8F01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5114-72C9-45AC-81F7-8421CA7EB16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70C3-0A98-4852-8D47-45907F134F4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5BD6-C548-4745-ACA4-4FC01E2D1837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8EDD-2C61-47C1-B663-4100B798E05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A99C-8178-44E8-9DFE-6E2264DE8C9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D748-61A4-492C-9370-053F36A35767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93080" cy="31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veman"/>
              </a:rPr>
              <a:t>THE THREE STATES</a:t>
            </a:r>
            <a:br>
              <a:rPr sz="4000"/>
            </a:br>
            <a:r>
              <a:rPr b="1" lang="en-US" sz="4400" spc="-1" strike="noStrike">
                <a:solidFill>
                  <a:srgbClr val="333333"/>
                </a:solidFill>
                <a:latin typeface="Cave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Caveman"/>
              </a:rPr>
              <a:t>OF</a:t>
            </a:r>
            <a:br>
              <a:rPr sz="3200"/>
            </a:br>
            <a:r>
              <a:rPr b="1" lang="en-US" sz="4400" spc="-1" strike="noStrike">
                <a:solidFill>
                  <a:srgbClr val="333333"/>
                </a:solidFill>
                <a:latin typeface="Caveman"/>
              </a:rPr>
              <a:t>MATT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ve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438280" y="3733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Kristen ITC"/>
              </a:rPr>
              <a:t>By: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Kristen ITC"/>
              </a:rPr>
              <a:t>Salome Matano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Kristen ITC"/>
              </a:rPr>
              <a:t>Hobgood Elementay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p:transition advTm="12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19173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232"/>
                </a:solidFill>
                <a:latin typeface="Perpetua Titling MT"/>
              </a:rPr>
              <a:t>What is matter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324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Matter is anything t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takes up space </a:t>
            </a: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and </a:t>
            </a:r>
            <a:r>
              <a:rPr b="0" lang="en-US" sz="3600" spc="-1" strike="noStrike">
                <a:solidFill>
                  <a:srgbClr val="008000"/>
                </a:solidFill>
                <a:latin typeface="Calisto MT"/>
              </a:rPr>
              <a:t>has mass</a:t>
            </a: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Calisto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p:transition advTm="8000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Properties of Matter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44" name="Content Placeholder 3" descr=""/>
          <p:cNvPicPr/>
          <p:nvPr/>
        </p:nvPicPr>
        <p:blipFill>
          <a:blip r:embed="rId1"/>
          <a:stretch/>
        </p:blipFill>
        <p:spPr>
          <a:xfrm>
            <a:off x="774720" y="1828800"/>
            <a:ext cx="7588080" cy="4297320"/>
          </a:xfrm>
          <a:prstGeom prst="rect">
            <a:avLst/>
          </a:prstGeom>
          <a:ln w="0">
            <a:noFill/>
          </a:ln>
        </p:spPr>
      </p:pic>
      <p:pic>
        <p:nvPicPr>
          <p:cNvPr id="645" name="Diagram 6" descr=""/>
          <p:cNvPicPr/>
          <p:nvPr/>
        </p:nvPicPr>
        <p:blipFill>
          <a:blip r:embed="rId2"/>
          <a:stretch/>
        </p:blipFill>
        <p:spPr>
          <a:xfrm>
            <a:off x="1523880" y="1268280"/>
            <a:ext cx="6096240" cy="433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lashDLig"/>
              </a:rPr>
              <a:t>SOLIDS</a:t>
            </a:r>
            <a:endParaRPr b="0" lang="en-US" sz="115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47" name="Picture 5" descr="j0283725"/>
          <p:cNvPicPr/>
          <p:nvPr/>
        </p:nvPicPr>
        <p:blipFill>
          <a:blip r:embed="rId1"/>
          <a:srcRect l="0" t="21948" r="0" b="21948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3" descr="MPj03961280000[1]"/>
          <p:cNvPicPr/>
          <p:nvPr/>
        </p:nvPicPr>
        <p:blipFill>
          <a:blip r:embed="rId2"/>
          <a:srcRect l="0" t="32006" r="0" b="32006"/>
          <a:stretch/>
        </p:blipFill>
        <p:spPr>
          <a:xfrm>
            <a:off x="464832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MPj03873030000[1]"/>
          <p:cNvPicPr/>
          <p:nvPr/>
        </p:nvPicPr>
        <p:blipFill>
          <a:blip r:embed="rId3"/>
          <a:stretch/>
        </p:blipFill>
        <p:spPr>
          <a:xfrm>
            <a:off x="1751040" y="2135160"/>
            <a:ext cx="2192400" cy="218916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  <p:sndAc>
      <p:stSnd>
        <p:snd r:embed="rId4" name="laser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68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68" fill="hold"/>
                                        <p:tgtEl>
                                          <p:spTgt spid="6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68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68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ffffff"/>
                </a:solidFill>
                <a:latin typeface="FlashDLig"/>
              </a:rPr>
              <a:t>Liquids</a:t>
            </a:r>
            <a:endParaRPr b="0" lang="en-US" sz="116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51" name="Picture 3" descr="j0282866"/>
          <p:cNvPicPr/>
          <p:nvPr/>
        </p:nvPicPr>
        <p:blipFill>
          <a:blip r:embed="rId1"/>
          <a:stretch/>
        </p:blipFill>
        <p:spPr>
          <a:xfrm>
            <a:off x="992160" y="2692440"/>
            <a:ext cx="2860560" cy="19368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j0112668[1]"/>
          <p:cNvPicPr/>
          <p:nvPr/>
        </p:nvPicPr>
        <p:blipFill>
          <a:blip r:embed="rId2"/>
          <a:srcRect l="0" t="6449" r="0" b="6449"/>
          <a:stretch/>
        </p:blipFill>
        <p:spPr>
          <a:xfrm>
            <a:off x="4797360" y="1828800"/>
            <a:ext cx="3565440" cy="42973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breeze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68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68" fill="hold"/>
                                        <p:tgtEl>
                                          <p:spTgt spid="6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68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68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lashDLig"/>
              </a:rPr>
              <a:t>GAS</a:t>
            </a:r>
            <a:endParaRPr b="0" lang="en-US" sz="115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154080" cy="1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5" name="Picture 4" descr="j0181469"/>
          <p:cNvPicPr/>
          <p:nvPr/>
        </p:nvPicPr>
        <p:blipFill>
          <a:blip r:embed="rId1"/>
          <a:stretch/>
        </p:blipFill>
        <p:spPr>
          <a:xfrm>
            <a:off x="2057400" y="243828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2" name="explode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68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68" fill="hold"/>
                                        <p:tgtEl>
                                          <p:spTgt spid="6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By adding energy the state changes.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plasma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 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SSolidoga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liquid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 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solid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8" name="Picture 402" descr="MCj02158370000[1]"/>
          <p:cNvPicPr/>
          <p:nvPr/>
        </p:nvPicPr>
        <p:blipFill>
          <a:blip r:embed="rId1"/>
          <a:stretch/>
        </p:blipFill>
        <p:spPr>
          <a:xfrm>
            <a:off x="1447920" y="5638680"/>
            <a:ext cx="914400" cy="6145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04" descr="MCj04348160000[1]"/>
          <p:cNvPicPr/>
          <p:nvPr/>
        </p:nvPicPr>
        <p:blipFill>
          <a:blip r:embed="rId2"/>
          <a:stretch/>
        </p:blipFill>
        <p:spPr>
          <a:xfrm>
            <a:off x="3048120" y="4572000"/>
            <a:ext cx="761760" cy="752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06" descr="MCj04417500000[1]"/>
          <p:cNvPicPr/>
          <p:nvPr/>
        </p:nvPicPr>
        <p:blipFill>
          <a:blip r:embed="rId3"/>
          <a:stretch/>
        </p:blipFill>
        <p:spPr>
          <a:xfrm>
            <a:off x="4267080" y="3657600"/>
            <a:ext cx="828720" cy="847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07" descr="MCj04348160000[1]"/>
          <p:cNvPicPr/>
          <p:nvPr/>
        </p:nvPicPr>
        <p:blipFill>
          <a:blip r:embed="rId4"/>
          <a:stretch/>
        </p:blipFill>
        <p:spPr>
          <a:xfrm>
            <a:off x="5638680" y="2514600"/>
            <a:ext cx="762120" cy="752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09" descr="MCj04413910000[1]"/>
          <p:cNvPicPr/>
          <p:nvPr/>
        </p:nvPicPr>
        <p:blipFill>
          <a:blip r:embed="rId5"/>
          <a:stretch/>
        </p:blipFill>
        <p:spPr>
          <a:xfrm>
            <a:off x="6934320" y="1600200"/>
            <a:ext cx="990360" cy="95256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0"/>
          <p:cNvSpPr/>
          <p:nvPr/>
        </p:nvSpPr>
        <p:spPr>
          <a:xfrm>
            <a:off x="2595960" y="5334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11"/>
          <p:cNvSpPr/>
          <p:nvPr/>
        </p:nvSpPr>
        <p:spPr>
          <a:xfrm>
            <a:off x="5186520" y="3276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6477120" y="2286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Box 15"/>
          <p:cNvSpPr/>
          <p:nvPr/>
        </p:nvSpPr>
        <p:spPr>
          <a:xfrm>
            <a:off x="2596680" y="6248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Box 16"/>
          <p:cNvSpPr/>
          <p:nvPr/>
        </p:nvSpPr>
        <p:spPr>
          <a:xfrm>
            <a:off x="549288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Box 17"/>
          <p:cNvSpPr/>
          <p:nvPr/>
        </p:nvSpPr>
        <p:spPr>
          <a:xfrm>
            <a:off x="8233560" y="25909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                   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Calisto MT"/>
              </a:rPr>
              <a:t>      </a:t>
            </a:r>
            <a:r>
              <a:rPr b="0" lang="en-US" sz="7200" spc="-1" strike="noStrike">
                <a:solidFill>
                  <a:srgbClr val="333333"/>
                </a:solidFill>
                <a:latin typeface="Calisto MT"/>
              </a:rPr>
              <a:t>THE END</a:t>
            </a:r>
            <a:endParaRPr b="0" lang="en-US" sz="72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9" dur="2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14:32Z</dcterms:created>
  <dc:creator>mmasters</dc:creator>
  <dc:description/>
  <dc:language>en-US</dc:language>
  <cp:lastModifiedBy>salome.matano</cp:lastModifiedBy>
  <dcterms:modified xsi:type="dcterms:W3CDTF">2012-03-31T15:58:47Z</dcterms:modified>
  <cp:revision>27</cp:revision>
  <dc:subject/>
  <dc:title>THE THREE STATES  OF MATTER  </dc:title>
</cp:coreProperties>
</file>